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311F-308D-448D-89A7-931E49F72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5D27-C815-4D51-AB91-299C9D86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0AED-D050-4B81-ADC5-D803788DD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3E67-3DE1-442D-BA2A-66AAB91C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FBA6-C53C-42BF-B81A-41390A941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C6B9-08BF-4124-8F29-D7CD650F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0898-DE55-431B-82CD-D2DA023F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6195-0FBA-4761-BCC4-DE296F02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0CF3-3E82-4B2C-9CEB-27B6B27A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979D-8B35-4D37-A9F9-98300C77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6141-522D-448B-9342-6D157129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8D19-2F20-429D-976C-F6346FAA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FCCF-7314-4BE5-B9E4-71C5AE70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3716-6306-457D-A31B-FBE0FA0E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9D2E-29F8-43F0-A878-00C896CA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F479-1938-41BE-B656-6551EB2D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FF76-42EF-4A2A-BC3E-69A5F67A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5ED4-3E21-43A9-93E0-D7AB83B7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CD4B-7E78-44DA-AE02-E7BA4481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A7D0-702E-4969-A2DE-AB67FBAD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316A-AAF3-4196-A09F-5E7969BA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4069-2204-40E9-A8A4-764B032A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AFB8-0002-4845-87E1-98B906B3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8641-8F15-4854-8982-616748B5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C2D1-54AF-4E28-8A6A-54B61CB2077C}" type="slidenum">
              <a:rPr b="0" lang="zh-TW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823D-1F93-4FAD-BC11-E994FFC0DC63}" type="slidenum">
              <a:rPr b="0" lang="zh-TW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66"/>
                </a:solidFill>
                <a:latin typeface="Tahoma"/>
              </a:rPr>
              <a:t>CBETA</a:t>
            </a:r>
            <a:r>
              <a:rPr b="1" lang="zh-TW" sz="4400" spc="-1" strike="noStrike">
                <a:solidFill>
                  <a:srgbClr val="660066"/>
                </a:solidFill>
                <a:latin typeface="Tahoma"/>
              </a:rPr>
              <a:t>電子佛典系列光碟</a:t>
            </a:r>
            <a:br>
              <a:rPr sz="4400"/>
            </a:br>
            <a:r>
              <a:rPr b="1" lang="zh-TW" sz="4400" spc="-1" strike="noStrike">
                <a:solidFill>
                  <a:srgbClr val="660066"/>
                </a:solidFill>
                <a:latin typeface="Tahoma"/>
              </a:rPr>
              <a:t>大正新脩大藏經</a:t>
            </a:r>
            <a:r>
              <a:rPr b="1" lang="zh-TW" sz="4400" spc="-1" strike="noStrike">
                <a:solidFill>
                  <a:srgbClr val="660066"/>
                </a:solidFill>
                <a:latin typeface="Tahoma"/>
              </a:rPr>
              <a:t>T01-T3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9" name="!untitle1" descr=""/>
          <p:cNvPicPr/>
          <p:nvPr/>
        </p:nvPicPr>
        <p:blipFill>
          <a:blip r:embed="rId1"/>
          <a:stretch/>
        </p:blipFill>
        <p:spPr>
          <a:xfrm>
            <a:off x="4724280" y="2743200"/>
            <a:ext cx="3357720" cy="34574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80880" y="4038480"/>
            <a:ext cx="243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b7c1eb"/>
                </a:solidFill>
                <a:latin typeface="Tahoma"/>
              </a:rPr>
              <a:t>高品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b7c1eb"/>
                </a:solidFill>
                <a:latin typeface="Tahoma"/>
              </a:rPr>
              <a:t>高效率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b7c1eb"/>
                </a:solidFill>
                <a:latin typeface="Tahoma"/>
              </a:rPr>
              <a:t>國際化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b7c1eb"/>
                </a:solidFill>
                <a:latin typeface="Tahoma"/>
              </a:rPr>
              <a:t>標準化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工具列表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EasyZi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WordView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CBGre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EZDic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Mojikyo View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Other Too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缺字的處理：</a:t>
            </a:r>
            <a:br>
              <a:rPr sz="4400"/>
            </a:br>
            <a:r>
              <a:rPr b="0" lang="zh-TW" sz="3200" spc="-1" strike="noStrike">
                <a:solidFill>
                  <a:srgbClr val="660066"/>
                </a:solidFill>
                <a:latin typeface="Tahoma"/>
              </a:rPr>
              <a:t>今昔文字鏡和</a:t>
            </a:r>
            <a:r>
              <a:rPr b="0" lang="zh-TW" sz="3200" spc="-1" strike="noStrike">
                <a:solidFill>
                  <a:srgbClr val="660066"/>
                </a:solidFill>
                <a:latin typeface="Tahoma"/>
              </a:rPr>
              <a:t>UNICOD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忽略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通用字組代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組字式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圖檔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造字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內碼：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Unicod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字型：今昔文字鏡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其他的文字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未來發展的可能性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現有佛學光碟資源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CBETA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電子佛典系列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大正藏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印順導師全集光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佛光大辭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金剛經專輯、地藏經專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南傳大藏經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中華佛學研究所專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其他唱頌、梵唄、多媒體光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CBETA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網站資源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藏經下載及瀏覽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全文檢索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電子報與最新訊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相關工具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相關討論及咨詢服務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留言版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其他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440" y="2057040"/>
            <a:ext cx="7010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WWW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網站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七葉窟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大藏經之窗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馬來西亞佛教青年總會砂勞越州聯委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搞笑寶寶之家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佛經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漢文佛教經典系列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角虎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! 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大正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悉曇資訊  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Siddha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八萬法門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--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真如慧海佛學網站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哲學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609480" y="38052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佛學網路資源一：</a:t>
            </a: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CBETA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經文鏡像站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6954120" y="1600200"/>
            <a:ext cx="1571040" cy="21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FTP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網站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ahoma"/>
                <a:ea typeface="新細明體"/>
              </a:rPr>
              <a:t>東坡站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ahoma"/>
                <a:ea typeface="新細明體"/>
              </a:rPr>
              <a:t>中研院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ahoma"/>
                <a:ea typeface="新細明體"/>
              </a:rPr>
              <a:t>七葉窟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佛學網路資源二：</a:t>
            </a: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推薦的佛學網站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佛教數位博物館及圖書館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北美印順導師基金會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法鼓山全球資訊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佛光山全球資訊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伽耶山全球資訊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網路中文佛法作品選錄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簡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… … …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佛學網路資源三：</a:t>
            </a: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佛典電子化相關資源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今昔文字鏡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中華佛典寶庫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台大經典系列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佛教數位博物館及圖書館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巨石數位藏經閣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佛教電腦資訊庫功德會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Full Text DataBase of Taisho Tripita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Haeinsa Sudura (Korean Version)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日本花園大學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電子佛典與圖書館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檢索的提供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區域網路的使用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CBETA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光碟的複製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CBETA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網路檢索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其他的電子化資源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結語：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40458c"/>
                </a:solidFill>
                <a:latin typeface="Tahoma"/>
              </a:rPr>
              <a:t>跨世紀佛學盛會：打造跨越時空的無礙經文瀏覽環境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站在巨人的肩膀上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我們正面臨一個嶄新的時代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邀約您共創未來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ing so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40458c"/>
                </a:solidFill>
                <a:latin typeface="Tahoma"/>
              </a:rPr>
              <a:t>九月二十三日</a:t>
            </a:r>
            <a:r>
              <a:rPr b="0" lang="zh-TW" sz="40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zh-TW" sz="4000" spc="-1" strike="noStrike">
                <a:solidFill>
                  <a:srgbClr val="40458c"/>
                </a:solidFill>
                <a:latin typeface="Tahoma"/>
              </a:rPr>
              <a:t>六</a:t>
            </a:r>
            <a:r>
              <a:rPr b="0" lang="zh-TW" sz="4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zh-TW" sz="4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zh-TW" sz="4000" spc="-1" strike="noStrike">
                <a:solidFill>
                  <a:srgbClr val="40458c"/>
                </a:solidFill>
                <a:latin typeface="Tahoma"/>
              </a:rPr>
              <a:t>嘉義安慧學苑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40458c"/>
                </a:solidFill>
                <a:latin typeface="Tahoma"/>
              </a:rPr>
              <a:t>十月七日</a:t>
            </a:r>
            <a:r>
              <a:rPr b="0" lang="zh-TW" sz="40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zh-TW" sz="4000" spc="-1" strike="noStrike">
                <a:solidFill>
                  <a:srgbClr val="40458c"/>
                </a:solidFill>
                <a:latin typeface="Tahoma"/>
              </a:rPr>
              <a:t>六</a:t>
            </a:r>
            <a:r>
              <a:rPr b="0" lang="zh-TW" sz="4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zh-TW" sz="4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zh-TW" sz="4000" spc="-1" strike="noStrike">
                <a:solidFill>
                  <a:srgbClr val="40458c"/>
                </a:solidFill>
                <a:latin typeface="Tahoma"/>
              </a:rPr>
              <a:t>高雄紫竹林精舍圖書管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Coming soon… …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演講內容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中華電子佛典協會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CBETA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簡介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(10‘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中華電子佛典協會現有成果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(5‘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大正藏光碟使用操作說明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(60‘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圖書館檢索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(5‘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討論與分享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(30‘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講者：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杜正民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**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中華佛研所副所究員及網資室主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周海文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*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中華電子佛典協會網路組及資訊組組長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李志強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中華電子佛典協會發行組組長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CBETA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現有成果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大正新脩大藏經第五冊至第十冊光碟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(98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大正新脩大藏經第一冊至第三十二冊光碟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(99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網路下載經文大正藏第一冊至第四十冊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網路下載資源：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工具程式、製作流程及相關發表文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全文檢索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共同合作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光碟操作使用說明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內容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安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HTML Help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版使用說明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Word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使用說明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如何檢索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如果編輯與列印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其他工具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HTML Help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版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索引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書籤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檢索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連續搜尋、布林搜尋、搜尋小技巧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引用複製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佛學辭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GO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其他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Word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版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WORD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字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工具列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引用複製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出處查詢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顯示模式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如何隱藏標記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其他功能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直排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注音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App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和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Normal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版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27432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純文字模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行首資訊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組字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搜尋與瀏覽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App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行末斷句模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佛學辭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2742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丁福保佛學辭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東亞佛學名相辭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6T01:15:58Z</dcterms:created>
  <dc:creator>Jester Lee</dc:creator>
  <dc:description/>
  <dc:language>en-US</dc:language>
  <cp:lastModifiedBy>Jester Lee</cp:lastModifiedBy>
  <dcterms:modified xsi:type="dcterms:W3CDTF">2000-09-16T12:01:19Z</dcterms:modified>
  <cp:revision>20</cp:revision>
  <dc:subject/>
  <dc:title>CBETA電子佛典系列光碟 大正新脩大藏經T01-T32</dc:title>
</cp:coreProperties>
</file>